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DED-CB83-42AC-9592-670B8242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098-A7D1-45C2-832A-A8FF5B55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D71-FE52-44F3-A8B8-D3289AF5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C63-8FB2-4CFE-AFB5-B8FA2546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7FA-79AC-4517-B3F2-9618903E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5E5-7CE4-43E9-8739-46515598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9F7-821C-4186-B1CC-49940B4B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C3AF-220C-4F5A-8BFE-98514686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BF0-DEDF-43A0-83FC-A722DEE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3E5A-4AF9-4E16-AA9B-70C3BC0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D34-26A9-43CE-A551-8C1633A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4C0-2FDA-4C9E-B27E-E343E291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10B8-1873-4410-8928-0D72F2B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2391-A5ED-4108-9C69-DF8572EC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0992-4E19-4D19-83A8-1D41376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991C-E5E3-4A86-BD5A-F576884D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9BD-3495-403C-847C-298F6B7E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30D-11F6-4E29-8A65-0BAA362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4B0-40C9-40B6-8267-C101265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3ED-1F8F-4B24-BF5D-E3824CB0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EF4-E2FB-449B-BD91-88449D0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EC2-E8D6-44C4-A26C-BC093FF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DF2-0495-403A-97B9-A7F5E2C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506-2721-4AB5-B856-BD61A37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417-C9E4-4B35-B837-2213F877E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AC8C-1F53-4A0A-841F-74F4FE680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b7"/>
                </a:solidFill>
                <a:latin typeface="Britannic Bold"/>
              </a:rPr>
              <a:t>Assessment review</a:t>
            </a:r>
            <a:r>
              <a:rPr b="1" lang="en-US" sz="6400" spc="-1" strike="noStrike">
                <a:solidFill>
                  <a:srgbClr val="ffffb7"/>
                </a:solidFill>
                <a:latin typeface="Britannic Bold"/>
              </a:rPr>
              <a:t>	</a:t>
            </a:r>
            <a:endParaRPr b="1" lang="en-US" sz="6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eek 7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23000" y="44845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4720" y="49784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35520" y="493560"/>
            <a:ext cx="952560" cy="8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168480"/>
            <a:ext cx="784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5x6-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-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3x(4+4)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-1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n a floor hockey game,Marni stopped 7 out of 19shots on goal. Anna stopped 13 out of 15 shots. Which girl stopped the larger fraction of sho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List 2 equivalent fra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3/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xpress in standard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1.6x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2.7x1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3.8x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1040" y="3679920"/>
            <a:ext cx="1854000" cy="12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19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88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Copy and use brackets to make the statement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5-3=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+2x3=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Aaron earns $187.50 for working 30 hours. How much can he earn in 8 hou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About 18% of graduates enter college. There are 450 graduates. How many enter colle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f x/6=12/8,what is the value of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Which of the following is between ¼ and 1/3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2/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3/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1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267600" y="5197320"/>
            <a:ext cx="22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150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3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07:56Z</dcterms:created>
  <dc:creator>krista.graham</dc:creator>
  <dc:description/>
  <dc:language>en-US</dc:language>
  <cp:lastModifiedBy>krista.graham</cp:lastModifiedBy>
  <dcterms:modified xsi:type="dcterms:W3CDTF">2008-10-26T17:12:56Z</dcterms:modified>
  <cp:revision>2</cp:revision>
  <dc:subject/>
  <dc:title>Assessment review </dc:title>
</cp:coreProperties>
</file>